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93D-D1EE-4C96-BF12-042D6039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1C5-BF2A-441D-A0B8-A870CB34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A57-5C75-4ACD-98AB-487FC8C1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164-0428-4191-A3DA-4C76407C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98E-F013-41A4-8B63-D572CEA0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B6E3-D809-4590-85F1-4BB423D4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CE8-0196-4182-996C-5DC9717B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45A-E15E-4BD2-A644-F98AFAF2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60F-A596-48AF-9F63-8405EC63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0F7-8EDF-4F74-8AF8-00D7DD58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EA4-DA0D-4B7F-84C4-8C4530FF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BCD-30B7-454B-9E0E-9C27C307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CBE4-E926-415E-8090-6BF0B48AF60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57120" y="239760"/>
            <a:ext cx="754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IF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4670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mor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500120" y="2376360"/>
            <a:ext cx="421488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βολος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ρπος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αος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ιππος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οβος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ρονος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14920" y="2386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landerer, the dev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14920" y="29671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714920" y="3567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ctuary, shrine, 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714920" y="42004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i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714920" y="48099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714920" y="54291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(period 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357120" y="146700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verbs that are Passive deponents (at least in some tens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857160" y="2643120"/>
            <a:ext cx="485784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κρινομαι (231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ουλομαι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ρευομαι (1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πορευομα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οβεομαι (9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357880" y="26528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357880" y="3233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357880" y="38336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357880" y="4467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357880" y="50767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afraid, 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357120" y="125244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many more (normal)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857160" y="1967040"/>
            <a:ext cx="48578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ἁγιαζ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σθενεω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σταζ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αμε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νωριζ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ευ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χε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357880" y="1976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 h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357880" y="25574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weak, s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357880" y="31575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357880" y="37908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357880" y="44006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357880" y="50054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a 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357880" y="5610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ou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857160" y="1682640"/>
            <a:ext cx="48578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νδυ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πιστρεφω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κ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σχυ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ελευ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λαι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ωλυ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5357880" y="16905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357880" y="2273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urn (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357880" y="28735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come, am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357880" y="35053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357880" y="4116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5357880" y="4721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357880" y="53262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857160" y="1500120"/>
            <a:ext cx="48578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πε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μνυ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ρισσευ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λε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στρεφω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αιν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ρονε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357880" y="16905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ieve,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5357880" y="2273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wear, take an o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357880" y="28735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ex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357880" y="35053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inish,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5357880" y="4116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urn back,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5357880" y="4721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hine, 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5357880" y="53262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o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1:37:10Z</dcterms:created>
  <dc:creator>Sarah</dc:creator>
  <dc:description/>
  <dc:language>en-US</dc:language>
  <cp:lastModifiedBy>Sarah</cp:lastModifiedBy>
  <dcterms:modified xsi:type="dcterms:W3CDTF">2009-07-09T16:35:32Z</dcterms:modified>
  <cp:revision>10</cp:revision>
  <dc:subject/>
  <dc:title>Slide 1</dc:title>
</cp:coreProperties>
</file>